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9F3-9406-40E9-AF41-B4FD44F5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251-8D5F-4792-8E7F-65CD14D4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985-E912-4938-BC21-BAF4FD84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B6D-534B-4771-8DC2-57835E69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9BB07-1E37-4F40-968D-6D1BCDFD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02E36-CFF2-4847-9363-11A61766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5FBA8-EA49-4BEB-8344-3EAD71F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FA5D-ED09-409E-B74A-5490EB33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1A380-1DB5-46E2-98F1-A6EE9FAC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F8DA3-2E29-47E8-A235-D994D6C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424EA-170E-4BC9-9531-BDAC28F7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15E-CA6D-40CB-B6BF-FF25D3B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874D0-B22A-40D5-AD5F-53670CFD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81BB8-A19C-4092-9866-CA94376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0286D-64B0-44F0-B962-07F24D7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07AAE-21DD-4A57-97F4-B325B53A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FE5D-33FB-477A-BB3F-BCACD697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6DC-7AF1-4040-9E9E-898B8365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C81-E756-4A37-B6CD-20B1E067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95C-BD8D-4C69-8E81-7164AAA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FB3-CA9D-4A3A-B8D3-A8AE293F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F2A-8955-40CB-9A3A-8DE6AD5F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526-4988-42E1-AE5B-DCDF7FD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337-F746-480E-B981-EC85CB2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4D0E-BDFF-43A4-AD32-342462B28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82DB-FBAE-4917-99DF-2C74BFBCD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ive Us A King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United Kingdom, Part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5, Lesson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Kings 11:1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29-1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High Point in Israel’s Histo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d blessed them grea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 was on all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gnificent temple was fi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were serving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ritory was at it’s largest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rich beyond compreh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prosperous and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the most powerful nation at th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4792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 Falls Away From Go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1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’s weakness – foreign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abites, Ammonites, Edomites, Sidonians, Hittites and the Egyptian w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d for them (sealed treat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00 wives; 300 concub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wives turned his heart from the true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altars (high places) for the various gods of surrounding nations to please his w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 Falls Away From Go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9-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as angered with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to know what Deut. 7:3-4 s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ppeared to him tw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received wisdom in abun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ches beyond m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warnings from his father, Dav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Kings 2:1-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warnings from God himsel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Kings 3:14 and 9:1-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tted earlier there was only one Go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Kings 8:6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d’s Anger Against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9-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d warned the Israelites about intermarrying with other natio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Deut. 7:3-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y did, they would turn to other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did not heed this w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as angry with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kingdom would be taken from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ribe left to his son for David’s sake and for Jerusalem’s s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um of Solomon’s Life –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our “W’s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’s Adversaries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14-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ad, an Edomite, was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of an Edomit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d to Egypt when all males killed by Jo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ried Pharaoh's sister-in-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ed to return to home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ready to rebel against Solo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zon, son of Eliad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ain over an army in Damascus, Sy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ed with Hadad in harassing Solo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omon’s Adversaries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14-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oboam, son of an Ephrathit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ghty man of va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ijah met him leaving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ijah tore Jeroboam’s new coat into 12 pie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ave Jeroboam ten pieces; he would rule over 10 tri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tribe left for Solomon’s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tried to kill Jerobo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fled to Egypt until Solomon d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Death of Solomon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Kings 11:41-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gned over all Israel for 4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ied in the City of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robably died in the age range of 50-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Kings 3:7, he said that he was “but a little child; I know not how to go out or come i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oboam, his son, reigned after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would now become a divided 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of God’s promises is fulf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815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3:39:32Z</dcterms:created>
  <dc:creator>Frank D Vines</dc:creator>
  <dc:description/>
  <dc:language>en-US</dc:language>
  <cp:lastModifiedBy>Frank D Vines</cp:lastModifiedBy>
  <dcterms:modified xsi:type="dcterms:W3CDTF">2005-08-24T21:31:09Z</dcterms:modified>
  <cp:revision>11</cp:revision>
  <dc:subject/>
  <dc:title>“Give Us A King” The United Kingdom, Part 2</dc:title>
</cp:coreProperties>
</file>